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335-2427-4E5E-BA21-1397DD6F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371-05D5-46F2-A8D0-9EA57D00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513BC-4E2D-4FDF-8027-1325E044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EB4D3-1639-462D-8405-B872EC98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5D0E4-B5FE-48EA-97D3-167E63FC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7D24A-4600-406B-88C5-C9EBB003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66B6B-A1C7-40FD-9D35-3BD027A1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59781-5194-4258-A5A6-C36D3B9F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F48D5-179B-48E5-A364-3C26D84A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BE865-98A2-4CB0-82AC-38B925E1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2630F-7367-4886-B1D6-7C5B9845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A268C-8817-410D-8155-91C20AB5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2DB-936F-4063-B3EF-C40915B6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60CA1-1828-4341-AAD7-26E5F76D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D1B5A-27A3-4099-AB72-FE83D7B6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D7519-54C6-409D-8C07-0C775FB9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F0917-3BB9-4764-BA7B-F92B5837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3C19D-3774-423D-9BB8-61D64993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FEFBD-DE80-4E18-9497-3BD157AD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CFC1D-CA36-4174-839E-11883D4E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E4172-1AF3-4F24-9D95-5FA9D5BE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A7FA6-4979-4A1D-9FEB-A0DA2BBC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B9A7E-4B30-461A-A0D3-ABAF026C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DCA-2B73-4555-8BB3-49E4525C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AACC4-418F-4354-B84B-81FCA52E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55C8E-ADE0-4500-8E5B-53DE4E6C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EC0E5-A4CC-4ADE-9F79-A838F762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1A8D9-E19F-431B-9769-B827A430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44E6C-9D46-40A8-9AFE-DE21A7AA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1CC8D-21FC-4E2C-9EC0-081DAA47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E68B5-FB69-40D2-87CC-435D6A97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8CD5A-A883-408A-A30E-3584FB56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26993-5A29-4CAE-A321-5C257BBB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8A664-20E9-4799-86A6-A881A7CB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9BB9-4DB8-4BB8-B90F-0739CD18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D6357-154E-47E7-A937-29D949A1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E9DDD-50DC-4278-BBCD-C5C54E8F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3323C-67CD-4045-8425-617E6594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CEBAB-8360-4653-8954-7F62D1D1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DF57F-2E13-4F9D-BF0D-56156831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8374F-44D7-46AD-BA18-7659A411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24FC2-DADF-402C-AEDE-E0E27B28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5A33F-3F18-4980-8ABB-516BA9DD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3B7BC-B757-4866-9C40-75ECCF69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767B8-BE92-4F0A-9459-82E6B293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D9BC-7C96-445C-89BA-0006E664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1E808-1E58-4DBC-8382-2EB7935A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88649-A810-487E-A0A6-8F29D25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BC300-6C96-4168-ACD0-08F318D1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E2A03-DD64-44E5-B52D-6A9A3250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2DF57-1C48-487A-A758-300F280E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15B3-F1E4-4C5C-B90D-381189B5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EE78-DCDE-46DA-97C3-ED238B95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49C7-8A92-4792-8287-6FD1E0CE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F17A-BB08-4EFA-9B95-93100211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61EA-2792-4EA6-8C42-A3B2F091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5C9-BE34-4758-8C2B-DEAA9215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8552-31B6-4AE0-B6E2-96862FF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DFF6-3573-4F9A-883F-999E52A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274B-C46A-4FB5-A4D3-9C6F8567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2E01-8739-4B3F-ADDF-18834B28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1064-C5A6-4477-A474-9D02324F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77844-1839-400D-810D-24A3A687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BE6C-A8EE-4255-B5CF-E35E7A00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461F-AB10-48CA-BF77-0C06ED2E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11DE-1CF6-4E05-9F64-5D3496FC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7A07-65B0-4AC3-BC2D-E92B451C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6A0-6FEC-4875-8966-594581A1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32E8-ACD7-4B70-A200-4318AB44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B7BBC-FB75-4682-8D9A-906CB00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4FFF-C720-45E9-80AB-EC96681D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6FFDC-4CB4-414A-99A7-83D7548F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C178-094F-490B-B49B-38D89688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18316-F96A-482E-8381-29AD4145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C1B6-9DAF-4A0A-B6E8-29B43F7D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6C0F7-AD77-45BB-B291-737576C0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A7E5A-4266-431E-BBF8-0BBE0A85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D246-EFE4-4491-9648-B1ADFA3F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619-B6F1-40D2-8CF5-B76794A7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057F-BD4D-4690-9B71-C10DB856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02CA-14D9-4228-AA66-B8EAFA46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AF77-9797-4FD7-8AF1-C0F78074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726C-F745-4BDF-AE04-0E3CA7E4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33816-5465-4957-90BC-A5D52F2E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17FBC-C39C-4B43-B64D-EF7A3547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2B5EA-F5A2-4D85-83ED-EB763590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EA57-FC28-4D2E-AFF8-C97AF2BB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D448-765F-476F-ACDE-31165463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0F3FA-2913-47A1-BAC4-EF18C5C2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7F3-A93A-4FA9-BD83-60659DBF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CEBC5-F7B7-4201-8E44-E3DBC3B7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D410D-7C8E-4177-97F0-4EB7F05F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AB8C0-0CDA-4F67-BB13-C273D643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1E3A6-C086-4F96-B4D3-003E0859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F6332-C5E3-456B-AAF6-E62FF721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229E8-1D95-42E2-BEC2-6BBF3DCC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51CF-ECCD-460E-85D1-C0B22F51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62557-8C38-4109-A524-D9302C1D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CDD4A-2F92-4C3A-8DA7-8A0ABCD8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E6458-5438-4D02-B74A-B5BF2363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89F-F8F6-44AD-9F42-52D963CE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EBA9E-E8A4-41FC-9616-629F5494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DA36D-9BFD-42B8-97A1-0740E8ED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17A8A-49BB-40D8-AA45-15D25CA6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C4F0C-5526-46E5-A1DE-180FA044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289BA-AA95-412E-ACB0-650A9BC7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8D450-ACCD-4507-ACBD-7EF52E75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F149D-8AFD-4540-8466-E04DED45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BF8E0-E1BF-4B5A-94B9-3B44FDC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2788A-CDD8-4254-BE19-0A464B06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EC614-5413-4B0B-9646-B8BC600F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9FD-C770-4280-910B-53AD380B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20486-E9C6-49CA-9971-BD47080C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EEC1-BDCD-4C57-A6B8-A43BA209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CD876-A59D-4A7B-AF34-7DC6323A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D9082-93DA-4086-8C02-C581C155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2D0F0-B79A-42A6-9B2E-79352B7D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F38C2-452D-47E0-987D-A686BD1E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AFBB5-591A-40E6-9956-74D4ACDA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B6685-DA28-43B9-BD83-B3A2CFF2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29254-F520-49D2-8607-F2523656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64479-3F32-4721-84C9-7C3B043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8FE-41D4-4D4E-AA6A-2220A6EF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EC681-DF57-4A63-9CAF-3311437D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D32D6-5F4B-43FB-8C07-6226B1B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C8917-867B-4843-A3CF-19CAA8A2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5B032-8D51-484B-AE2B-F408DCD5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DB704-E360-4A8F-8C6E-FB14C6DC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F45FC-A980-4E10-97C4-790B51AD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3B35F-95EE-4336-A107-1B05D19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F8297-1B36-4891-8CF5-7664AFA6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290ED-B26A-4829-9E80-EAB10D03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35AFA-AF91-4463-B208-1F274FB2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08F-EE00-458A-9EB7-09B44EA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622620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34C8A-C4B9-4E19-A2FE-D44335EF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1E7C2-7C3A-4194-AFF8-7555E172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F90AC-F816-43A3-9E5A-BA2E7A98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07141-FDD0-4113-A88A-ABFE2078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2950920"/>
            <a:ext cx="906444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24776-10D2-4C7D-AF3A-7AA5B79E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7640" y="79164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7640" y="2950920"/>
            <a:ext cx="44233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EBDD7-ADD4-43B3-A863-D6DC331D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760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2640" y="79164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760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2640" y="2950920"/>
            <a:ext cx="291852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7F613-9CAB-4C11-8170-9403B792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1CCDB-89D0-46B6-A006-9D5AE0EE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DBB49-9AEA-43A4-9ED8-948126C7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41488-5C66-4E59-9C67-777490C7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4E91E-3B13-45DD-AFCD-16F6B2FB4002}" type="slidenum"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3280" y="537480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7720" y="537480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360" y="537480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B2CE6-CB6D-4749-A6AE-8E7DA88A297C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A46FC-C8A9-458A-A0CF-63997729638F}" type="slidenum"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2920" y="791640"/>
            <a:ext cx="9064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3280" y="537480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7720" y="537480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360" y="537480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29088-48B3-4144-978E-8D8A514D62CD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4544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45444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000" y="645444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429F2-EC26-4CCF-AA59-D8A7394186C8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720" y="1979280"/>
            <a:ext cx="88488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5624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56244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360" y="656244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D0169-3470-404A-A0E0-0BC9CB078B7C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42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0000" y="1979640"/>
            <a:ext cx="827424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BFD86-855C-42E5-AE43-27A800D7B0C7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720" y="1979280"/>
            <a:ext cx="88488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12720" y="65624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55720" y="656244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335360" y="656244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54940-222F-4D53-A625-018A46FFF5F0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2160360"/>
            <a:ext cx="90644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69855-582C-4B78-B272-7EDE05F1DC6D}" type="slidenum"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12720" y="64544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7720" y="645444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83000" y="645444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3ADD2-DBB5-4FDE-9470-2AC2418ACFB8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C5CFD-AD29-4770-AE0E-4B0A206C832A}" type="slidenum">
              <a:rPr b="0" lang="de-C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738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1295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1428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3572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F9B9F-5D42-45E1-93D7-490296EE5FC9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2220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4400" spc="-1" strike="noStrike">
                <a:solidFill>
                  <a:srgbClr val="000099"/>
                </a:solidFill>
                <a:latin typeface="Arial"/>
              </a:rPr>
              <a:t>Organigramm der Parte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-12600" y="5965920"/>
            <a:ext cx="10093320" cy="1593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8567640" y="6191280"/>
            <a:ext cx="1008000" cy="11383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808360" y="1655640"/>
            <a:ext cx="4464000" cy="684360"/>
          </a:xfrm>
          <a:prstGeom prst="roundRect">
            <a:avLst>
              <a:gd name="adj" fmla="val 231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504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Initiative Humanis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(Name der Parte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160720" y="262728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19640" y="2627280"/>
            <a:ext cx="180036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rial"/>
              </a:rPr>
              <a:t>Bundesausschu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40360" y="262728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Bunde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9280" y="3635280"/>
            <a:ext cx="1327320" cy="936720"/>
          </a:xfrm>
          <a:prstGeom prst="roundRect">
            <a:avLst>
              <a:gd name="adj" fmla="val 167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Jun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Human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6000" y="4824360"/>
            <a:ext cx="1295280" cy="863640"/>
          </a:xfrm>
          <a:prstGeom prst="roundRect">
            <a:avLst>
              <a:gd name="adj" fmla="val 181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Studenten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verband 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Human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00360" y="2052720"/>
            <a:ext cx="1008000" cy="3168720"/>
          </a:xfrm>
          <a:custGeom>
            <a:avLst/>
            <a:gdLst/>
            <a:ahLst/>
            <a:rect l="l" t="t" r="r" b="b"/>
            <a:pathLst>
              <a:path w="2801" h="8801">
                <a:moveTo>
                  <a:pt x="2800" y="0"/>
                </a:moveTo>
                <a:lnTo>
                  <a:pt x="0" y="0"/>
                </a:lnTo>
                <a:lnTo>
                  <a:pt x="0" y="8800"/>
                </a:lnTo>
              </a:path>
            </a:pathLst>
          </a:cu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60720" y="341964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Landes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9640" y="3419640"/>
            <a:ext cx="180036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rial"/>
              </a:rPr>
              <a:t>Landesausschu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40360" y="341964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Lande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60720" y="421164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119640" y="4211640"/>
            <a:ext cx="180036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ausschu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40360" y="4211640"/>
            <a:ext cx="1800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60720" y="5003640"/>
            <a:ext cx="180000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Mitglieder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versamm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119640" y="5003640"/>
            <a:ext cx="180036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Ortsausschu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40360" y="5003640"/>
            <a:ext cx="180000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26000" tIns="94320" b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Ort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511280" y="4140360"/>
            <a:ext cx="295200" cy="14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1511280" y="5219640"/>
            <a:ext cx="295200" cy="180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567640" y="3635280"/>
            <a:ext cx="1327320" cy="936720"/>
          </a:xfrm>
          <a:prstGeom prst="roundRect">
            <a:avLst>
              <a:gd name="adj" fmla="val 167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Vereini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g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67640" y="4751280"/>
            <a:ext cx="1327320" cy="936720"/>
          </a:xfrm>
          <a:prstGeom prst="roundRect">
            <a:avLst>
              <a:gd name="adj" fmla="val 167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Gruppie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r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272360" y="2052720"/>
            <a:ext cx="973080" cy="3168720"/>
          </a:xfrm>
          <a:custGeom>
            <a:avLst/>
            <a:gdLst/>
            <a:ahLst/>
            <a:rect l="l" t="t" r="r" b="b"/>
            <a:pathLst>
              <a:path w="2701" h="8801">
                <a:moveTo>
                  <a:pt x="0" y="0"/>
                </a:moveTo>
                <a:lnTo>
                  <a:pt x="2700" y="0"/>
                </a:lnTo>
                <a:lnTo>
                  <a:pt x="2700" y="8800"/>
                </a:lnTo>
              </a:path>
            </a:pathLst>
          </a:cu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8237520" y="4140360"/>
            <a:ext cx="372960" cy="14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8237520" y="5219640"/>
            <a:ext cx="372960" cy="180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040360" y="481788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020000" y="323352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7020000" y="4025880"/>
            <a:ext cx="1440" cy="192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7020000" y="481788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060720" y="4025880"/>
            <a:ext cx="1440" cy="192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060720" y="481788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060720" y="323352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040360" y="3233520"/>
            <a:ext cx="1440" cy="191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040360" y="4025880"/>
            <a:ext cx="1440" cy="192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9280" y="2484360"/>
            <a:ext cx="1327320" cy="936720"/>
          </a:xfrm>
          <a:prstGeom prst="roundRect">
            <a:avLst>
              <a:gd name="adj" fmla="val 167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Humanisten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511280" y="2987640"/>
            <a:ext cx="295200" cy="180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567640" y="2484360"/>
            <a:ext cx="1327320" cy="936720"/>
          </a:xfrm>
          <a:prstGeom prst="roundRect">
            <a:avLst>
              <a:gd name="adj" fmla="val 167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Ausländis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Human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8237520" y="3024360"/>
            <a:ext cx="372960" cy="14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922560" y="2987640"/>
            <a:ext cx="222480" cy="3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904000" y="2987640"/>
            <a:ext cx="218880" cy="180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922560" y="3743280"/>
            <a:ext cx="222480" cy="3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904000" y="3743280"/>
            <a:ext cx="218880" cy="180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922560" y="4535640"/>
            <a:ext cx="222480" cy="288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904000" y="4535640"/>
            <a:ext cx="218880" cy="14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900760" y="5326200"/>
            <a:ext cx="218880" cy="14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920760" y="5327640"/>
            <a:ext cx="222120" cy="324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-12600" y="5965920"/>
            <a:ext cx="10093320" cy="1593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8567640" y="6191280"/>
            <a:ext cx="1008000" cy="11383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40360" y="576360"/>
            <a:ext cx="180036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Präsi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Mitglie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40360" y="1547640"/>
            <a:ext cx="180036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Bunde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Mitglie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40360" y="2519280"/>
            <a:ext cx="1800360" cy="324000"/>
          </a:xfrm>
          <a:prstGeom prst="roundRect">
            <a:avLst>
              <a:gd name="adj" fmla="val 486"/>
            </a:avLst>
          </a:prstGeom>
          <a:gradFill rotWithShape="0">
            <a:gsLst>
              <a:gs pos="0">
                <a:srgbClr val="9999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Wahl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8423280" y="1180800"/>
            <a:ext cx="1440" cy="134460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056360" y="2153880"/>
            <a:ext cx="1800" cy="39060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67640" y="3240000"/>
            <a:ext cx="266364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Bundes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Beschlüsse zur Bundespoliti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Delegie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56360" y="2843280"/>
            <a:ext cx="1800" cy="36036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423280" y="2843280"/>
            <a:ext cx="1440" cy="36036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299280" y="3852720"/>
            <a:ext cx="468360" cy="82728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635280" y="3240000"/>
            <a:ext cx="2664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Landes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Beschlüsse zur Landespoliti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Delegie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03280" y="3240000"/>
            <a:ext cx="266364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parteit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Beschlüsse zur Komunalpoliti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Delegie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67640" y="4680000"/>
            <a:ext cx="2700360" cy="36036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Lande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35280" y="4680000"/>
            <a:ext cx="2700360" cy="36036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9640" y="4680000"/>
            <a:ext cx="2700360" cy="360360"/>
          </a:xfrm>
          <a:prstGeom prst="roundRect">
            <a:avLst>
              <a:gd name="adj" fmla="val 486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Mitgliederversamm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838160" y="3849480"/>
            <a:ext cx="1800" cy="83340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3280" y="5329080"/>
            <a:ext cx="266364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Ortsverb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Parteiba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835280" y="5040360"/>
            <a:ext cx="1440" cy="288720"/>
          </a:xfrm>
          <a:prstGeom prst="line">
            <a:avLst/>
          </a:prstGeom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68720" y="3564000"/>
            <a:ext cx="468360" cy="144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00720" y="3564000"/>
            <a:ext cx="486000" cy="144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95640" y="1800360"/>
            <a:ext cx="1800360" cy="431640"/>
          </a:xfrm>
          <a:prstGeom prst="roundRect">
            <a:avLst>
              <a:gd name="adj" fmla="val 231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Beir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Mitglie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0000" y="1547640"/>
            <a:ext cx="3996000" cy="684360"/>
          </a:xfrm>
          <a:prstGeom prst="roundRect">
            <a:avLst>
              <a:gd name="adj" fmla="val 231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Bundesausschu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X Mitglie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96000" y="1871640"/>
            <a:ext cx="1044360" cy="144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44720" y="2700360"/>
            <a:ext cx="3942000" cy="1440"/>
          </a:xfrm>
          <a:custGeom>
            <a:avLst/>
            <a:gdLst/>
            <a:ahLst/>
            <a:rect l="l" t="t" r="r" b="b"/>
            <a:pathLst>
              <a:path w="13801" h="1">
                <a:moveTo>
                  <a:pt x="1380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844720" y="2225160"/>
            <a:ext cx="1800" cy="48132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166920" y="3776760"/>
            <a:ext cx="468360" cy="90324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35280" y="5310360"/>
            <a:ext cx="266400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reisverb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Landkreise und kreisfreie Städ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767640" y="5329080"/>
            <a:ext cx="2663640" cy="61308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Landesvorst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Zusammenfassung der Landkrei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Arial"/>
              </a:rPr>
              <a:t>in den Bundesländer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88480" y="5003640"/>
            <a:ext cx="1440" cy="32400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6120" y="5003640"/>
            <a:ext cx="1800" cy="287640"/>
          </a:xfrm>
          <a:prstGeom prst="line">
            <a:avLst/>
          </a:prstGeom>
          <a:ln w="7200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71640" y="4176720"/>
            <a:ext cx="1800000" cy="287280"/>
          </a:xfrm>
          <a:prstGeom prst="roundRect">
            <a:avLst>
              <a:gd name="adj" fmla="val 486"/>
            </a:avLst>
          </a:prstGeom>
          <a:gradFill rotWithShape="0">
            <a:gsLst>
              <a:gs pos="0">
                <a:srgbClr val="9999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Wahl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443640" y="4140360"/>
            <a:ext cx="1800360" cy="287280"/>
          </a:xfrm>
          <a:prstGeom prst="roundRect">
            <a:avLst>
              <a:gd name="adj" fmla="val 486"/>
            </a:avLst>
          </a:prstGeom>
          <a:gradFill rotWithShape="0">
            <a:gsLst>
              <a:gs pos="0">
                <a:srgbClr val="9999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Wahl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76720" y="4140360"/>
            <a:ext cx="1800000" cy="287280"/>
          </a:xfrm>
          <a:prstGeom prst="roundRect">
            <a:avLst>
              <a:gd name="adj" fmla="val 486"/>
            </a:avLst>
          </a:prstGeom>
          <a:gradFill rotWithShape="0">
            <a:gsLst>
              <a:gs pos="0">
                <a:srgbClr val="9999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Wahl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-12600" y="5965920"/>
            <a:ext cx="10093320" cy="15937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8567640" y="6191280"/>
            <a:ext cx="1008000" cy="11383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0" y="360360"/>
            <a:ext cx="1008072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Der Bundesvorst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6360" y="4103640"/>
            <a:ext cx="8999280" cy="1728720"/>
          </a:xfrm>
          <a:prstGeom prst="roundRect">
            <a:avLst>
              <a:gd name="adj" fmla="val 88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80000" tIns="193320" bIns="180000" anchor="ctr">
            <a:noAutofit/>
          </a:bodyPr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Der Parteivorstand ist das politische Führungsorgan der Parte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Zu seinen Aufgaben zählen u.a.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Beschlussfassung über alle politischen und organisatorischen F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Abgabe von Stellungnahmen der Partei zu aktuellen politischen F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Vorbereitung von W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6360" y="1189080"/>
            <a:ext cx="8999280" cy="2770200"/>
          </a:xfrm>
          <a:prstGeom prst="rect">
            <a:avLst/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räsidium (geschäftsführender Vorstand) (xx Mitglie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Das Präsidium besteht aus dem Parteivorsitzende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dem Geschäftsführer (auf Vorschlag des Parteivorstandes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den x Sprechern (stellvertretende Vorsitzende) u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dem Bundes-Schatzmeist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er Parteivorstand (xx Mitglie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Der Bundesvorstand besteht aus dem Präsi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und x Beisitzern. Für diese Beisitzer haben die Landesverbände das alleinige Vorschlagsrech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-12600" y="5965920"/>
            <a:ext cx="10093320" cy="15937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8567640" y="6191280"/>
            <a:ext cx="1008000" cy="11383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0" y="360360"/>
            <a:ext cx="10080720" cy="612720"/>
          </a:xfrm>
          <a:prstGeom prst="roundRect">
            <a:avLst>
              <a:gd name="adj" fmla="val 255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Der Bundesaussch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9640" y="1152360"/>
            <a:ext cx="4140360" cy="1079640"/>
          </a:xfrm>
          <a:prstGeom prst="roundRect">
            <a:avLst>
              <a:gd name="adj" fmla="val 144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x Vertreter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er Landesverbä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400720" y="1130400"/>
            <a:ext cx="4140000" cy="1079280"/>
          </a:xfrm>
          <a:prstGeom prst="roundRect">
            <a:avLst>
              <a:gd name="adj" fmla="val 144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x VertreterInnen aus 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Versammlung der bundesw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Gruppierungen und Vereini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39640" y="2476440"/>
            <a:ext cx="4140360" cy="1079640"/>
          </a:xfrm>
          <a:prstGeom prst="roundRect">
            <a:avLst>
              <a:gd name="adj" fmla="val 144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x Mitglieder des Parteivorst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91000" y="2462040"/>
            <a:ext cx="4140360" cy="1079640"/>
          </a:xfrm>
          <a:prstGeom prst="roundRect">
            <a:avLst>
              <a:gd name="adj" fmla="val 144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x Vertreterinnen oder Vert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es anerkannten Jugendverb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6360" y="3816360"/>
            <a:ext cx="8999280" cy="2016000"/>
          </a:xfrm>
          <a:prstGeom prst="roundRect">
            <a:avLst>
              <a:gd name="adj" fmla="val 79"/>
            </a:avLst>
          </a:prstGeom>
          <a:noFill/>
          <a:ln w="7200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0" rIns="180000" tIns="193320" bIns="180000" anchor="ctr">
            <a:noAutofit/>
          </a:bodyPr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Der Bundesausschuss ist das Organ der Partei mit Initiativfunktion gegenüber dem Partei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vorstand. Er steht dem Parteivorstand zur Konsultation und Beratung zur Verfügung und 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Kontrollinstru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Der Bundesausschuss fördert u.a. das Zusammengehen der Landesverbänd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6000" indent="-21132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Er berät und beschliesst u.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grundsätzliche politisch und organisatorische Fra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CH" sz="1500" spc="-1" strike="noStrike">
                <a:solidFill>
                  <a:srgbClr val="000000"/>
                </a:solidFill>
                <a:latin typeface="Arial"/>
              </a:rPr>
              <a:t>den jährlichen Et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7:55:12Z</dcterms:created>
  <dc:creator>Helmut Jüterbock</dc:creator>
  <dc:description/>
  <dc:language>en-US</dc:language>
  <cp:lastModifiedBy>Helmut Jüterbock</cp:lastModifiedBy>
  <dcterms:modified xsi:type="dcterms:W3CDTF">2013-10-04T10:17:54Z</dcterms:modified>
  <cp:revision>2</cp:revision>
  <dc:subject/>
  <dc:title/>
</cp:coreProperties>
</file>